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253163" cy="9612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1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101" idx="3"/>
            <a:endCxn id="98" idx="1"/>
          </p:cNvCxnSpPr>
          <p:nvPr/>
        </p:nvCxnSpPr>
        <p:spPr>
          <a:xfrm flipV="1">
            <a:off x="3313080" y="3404160"/>
            <a:ext cx="2699280" cy="67824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stCxn id="101" idx="3"/>
            <a:endCxn id="99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911160" y="54936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oalbumi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albumi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ynthese i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er Leber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5" idx="3"/>
            <a:endCxn id="108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9" name=""/>
          <p:cNvCxnSpPr>
            <a:stCxn id="105" idx="3"/>
            <a:endCxn id="106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teinaufnahm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über die Nahr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nicht relevant bei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leintier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55800" y="549360"/>
            <a:ext cx="32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oalbuminäm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Bildung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ynthese i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r Leber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eberfunktions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2" idx="3"/>
            <a:endCxn id="115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6" name=""/>
          <p:cNvCxnSpPr>
            <a:stCxn id="112" idx="3"/>
            <a:endCxn id="113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1032840" y="549360"/>
            <a:ext cx="58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oalbuminäm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Bild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Synthese in der Leber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Umgeh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Le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20" idx="3"/>
            <a:endCxn id="121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mgeh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rtosystemisch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hun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84680" y="549360"/>
            <a:ext cx="764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albuminäm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ild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ynthese in der Leber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Umgeh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e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berfunktions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32120" y="549360"/>
            <a:ext cx="607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albuminäm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ildung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ynthese in der Leber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eberfunktions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3"/>
            <a:endCxn id="12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eberzirrh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ebertumo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z. B. Lymphom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epatolipid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640" y="639684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Gefäß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urchlässigkeit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Verlust ü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die Ni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30" idx="3"/>
            <a:endCxn id="131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34" name=""/>
          <p:cNvCxnSpPr>
            <a:stCxn id="130" idx="3"/>
            <a:endCxn id="132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35" name=""/>
          <p:cNvSpPr/>
          <p:nvPr/>
        </p:nvSpPr>
        <p:spPr>
          <a:xfrm>
            <a:off x="942480" y="549360"/>
            <a:ext cx="29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ypoalbuminäm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Verlus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8" idx="3"/>
            <a:endCxn id="139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efäß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durchlässigkeit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32120" y="549360"/>
            <a:ext cx="55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albuminäm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Verlus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Gefäßdurchlässigkeit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5560" y="549360"/>
            <a:ext cx="727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ypoalbuminäm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Verlust &gt; Gefäßdurchlässigkeit ↑ &gt; Vaskulit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42" idx="3"/>
            <a:endCxn id="14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P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ishmani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6396840"/>
            <a:ext cx="30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P = feline infektiöse Peritoniti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9" idx="3"/>
            <a:endCxn id="150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4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lust ü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e Ni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Protein-Losing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Nephropath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6640" y="549360"/>
            <a:ext cx="581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ypoalbuminäm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Verlust &gt; Verlust über die Ni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9T12:49:58Z</dcterms:modified>
  <cp:revision>332</cp:revision>
  <dc:subject/>
  <dc:title>Vorstellung einer Neuheit</dc:title>
</cp:coreProperties>
</file>